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C87-887C-42FC-9E64-502FDAE0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3D9-C71A-4559-A03A-79625E2E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664C4-6C60-40BA-9BC5-1819162C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68CFD-571B-47D5-97C8-CAE9D1E2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20F78-F4D7-42AB-8093-FB3CB3A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2AC7-D640-41F2-8337-293DBB0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9AFE9-84DB-48CC-967A-2781E65A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1CF46-0B57-4E40-A967-9BCBC18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0161-DE0B-4E22-A6AA-B9DBFCA1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6DF51-868D-465E-8677-8A228BC1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E73E0-CE32-4A74-A477-7AA090E4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A20AF-4D13-413E-BAEA-2D897FE5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F2E-A8E6-4A2E-BA7E-C06CAD71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F3436-ED6C-4D7C-AB53-DC6D44F2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66B73-C021-4390-9C5A-A4C7EE05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607BA-817E-46D4-AA3A-E9CA6968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1C371-8753-4341-A7D6-C5B6355C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E32E2-3A59-45D7-90F5-401B842C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488C-98D5-44A4-8F9B-1197303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3D145-4628-4E03-83D5-2A4EA96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33D70-F76D-4CCC-B5FD-7B09658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17DF-AE72-4B7B-ABA3-9AAF25E4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5C1C4-97FE-49F1-9F44-F5E3A8CE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7F7-2929-4C01-9917-59C89D68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B58C1-2455-4127-B4E2-196DF83A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1FC3B-F692-4433-86CB-BC367410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42D82-003C-4BA8-B814-85AE6EE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3C1F8-C266-4CF1-818E-A4F30B1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3D14-97D4-48E5-A80A-373AACF8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4FF17-0F90-4ABA-B6B9-27980744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C6C89-26CC-474C-89FB-E5D303B3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D8717-F0B5-4FA3-9F20-D0D095B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878EA-0891-4839-8BF2-5A1C276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3196-80DE-4B19-B169-84C1F87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73306-6F88-498F-9BEA-D8427105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4BF6-6A54-4DFE-AD32-4EF9CC24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8CC25-081B-4218-9AC5-B0B0554F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C7C2-9826-4406-82E6-345FAF2D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EDA1D6-13A7-4F14-B18C-4F97109F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ED5B82-BB0D-4992-9506-FB63319C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85D32D-1DE5-4E6A-93CA-1A4BD481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18F1F-08F7-4193-BDBE-CC24724A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EC7A19-D8F3-4FB2-A9F2-19A2B994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D70355-371B-435B-B75D-61FDF083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E2234B-2D05-4079-83D6-AD825B9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9F293-793A-4163-8AE4-69B0855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80A2BF-E605-4125-9E46-C58AAA6A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C88AD0-BED6-4FF0-85D3-B8CA02A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E4A35C-FF15-4340-91E8-544C233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A073B7-220D-4EA1-8C44-8E42626C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50158B-48FC-4957-B5BA-70998AF9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3EDD2-37A9-42CF-B78C-0356D997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D57E5-03E4-4223-BF2A-B99A6963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C6FFD-14AF-4209-B8E3-42B099AD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425B0-832F-4762-8FD6-88C20CF2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C72AE-6EBC-49CA-B8EB-E7D289C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DA2-E0E9-41B2-9344-F0AFD44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2AAD8-0E8D-4204-9166-23D33D9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93FC2-71D4-4A88-AB41-611A3F51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B1339-AE21-4424-A587-506A4FD6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40EAD-4650-43CC-89D6-699E3311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D3577-0E67-4B00-BD1B-9289AD32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6D21-2AFE-4C57-B49C-6463D8C2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2EA4-BABE-429C-97CD-3DD3FE1B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3C11-402A-45FD-A88B-5A08FD84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FF1F-EA7B-4838-9800-98E89D3B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F7BA-1C82-4CCD-A122-CD0B2FF8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D4E-4B50-48A1-B290-B4DB8D68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4AEF-3C8D-455A-AAAD-BA8FED6C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EA49-4295-4045-AE18-18EB70F5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49F5-789F-4B63-825B-6D0FC880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CADA-6C8A-4178-AF06-1BC97BF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E3F9-6524-48A7-91C7-0DE992AF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FA16-A038-4CA4-9005-C3B568E1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CA5B-EF5E-4DBE-AF8F-5F0932FD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04A2-2EAD-4570-89AB-E9DE7BCF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77E5-844B-4A7A-BFAB-D1C9B85C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63B6-2061-4173-B4B6-5E0D464E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829-5B87-4E2D-849D-D30894C7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8DE0-78D1-4E1B-8FD9-D9FBEE70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DABF3-77E0-499F-9D3C-ADAF201A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CC60-ED54-4A1F-980E-3C9050ED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4338-879D-4F17-8E35-8C2FE38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6B46-21AF-424C-B60B-34A833A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38AA0-6D18-43E9-8B93-71374ED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1161-EA49-42C5-A3FD-DE47F4B7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C6C7-4F30-4296-992A-0A802B3D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4F4D-F6C0-475F-9862-214DDB28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A48D1-8891-4BAF-B017-9C2D6EB3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3E5-B987-4E87-8CF0-7238AEF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8CD8-DBBE-4E42-8134-AC0E4A52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0DE03-7CD4-4096-AD13-F27C5D7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31F79-4C9B-4472-9D5B-51C876AB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0CE0-17BA-4774-BDA1-F6226912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E5FC-3F00-45F4-9209-04B50266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E17A-B44E-4FEB-89DE-5927F73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39E8-6C23-4D54-88DB-68FCEE8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A3A4F-8C06-4D73-9716-59DFE35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0498-CE57-43CF-8C0D-9B98D34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8290-A729-4926-B310-605BF668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521-0A5D-42E9-AAE3-E7344C0F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AAA0-BC3D-48E9-9516-DEB2F139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2DC1-B702-401C-93AA-EFECAFB2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7C71-1DE3-4FC9-B9AA-24CB5AB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9CB64-90A1-41D1-9B14-6EA9B42B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C18C-22F5-4AC8-85D3-6A21A3F1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4A63-E2E8-4D77-A898-062C2132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83325-5CAD-4757-9210-B39637F4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A348-C517-4D1D-A656-F442322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9A2A-1708-40B1-A78E-D236045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6FBB9-279E-456D-8DE5-0089636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429-2788-4819-BD53-2B72D06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8F7A2-104C-41D9-8B00-18B84929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35C5D-3C25-41E7-BDF5-42EF1361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63AF-19EA-452B-A82A-0E614897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167B-67F6-4A81-B515-78475916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76D5-6C4D-4F15-B58A-E5837C7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9F9B6-205F-43EA-AF85-CE80AEAF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B345-AF00-4EFA-BC3F-C3D42A46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51AC-F839-463D-9F24-8D3F36C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5695-5294-40F4-96D2-4986140A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36CEB-4D6C-4D34-97CD-5D72F7C7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F01-42D6-4DB4-92AC-49043E03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F1E9-BDA4-4045-8051-33696C5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41F4E-B417-475A-8067-F2395A7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22FE-F441-4F2D-9937-F3DE1980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3CB04-111A-4145-9B9F-BD04F718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A97A8-BD84-4FFC-95E6-82BD3B34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4963A-9A56-4207-9721-C73A79B3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B1D4F-CDC1-4D09-88D6-C38BBBA8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BCA80-90E0-4B95-AD01-73A6D0FC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58B32-C87C-49CB-94D5-AEC1E548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B822D-C3CF-4078-A39C-6D0F857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4BF-7B0F-4CDE-810E-7A64435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BF66B-3707-4239-98EF-AAA9960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FFFD8-E5AC-4F01-8F87-CAAE6005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5CBC3-B945-4D4E-A8A2-2120C60A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C8CB1-D646-4DC9-9A4C-6D9C1AB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E3D57-FD83-4676-8FA0-11A15B4F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254BC-6BBC-4938-9842-ECD652AF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F437B-2F2C-493B-91F7-2A54526C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FAECB-01F6-4EC8-95AA-0C948BDE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8DB05-DF87-45DB-9206-8EB2E265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B5E76-0FF3-4D9A-8086-F4E7D5ED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5BD-590B-47E3-A05A-0D45F5D60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7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9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D12B-7EF1-4C26-A4FD-9ECBD981D7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6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7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7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8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9733-A4FA-4AEC-B524-EE5C9E7C7A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2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3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3D7E-DFF8-49F7-AC06-50AF5F222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70B-19B0-4D96-ABEE-FB97F91D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54F-02C7-4622-BBB6-91334A6F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E3A6-D2FD-44DD-8439-11F6651FE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8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8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1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30B8-C181-45F7-838D-B6A5776A82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5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908-5535-434B-8DF7-FE2673EE3A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4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4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321-77D7-4020-B262-3E0D0F052ED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1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1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3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A550-6D0F-4AF2-9781-DFC2BEB6043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8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8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0302-E246-4FC9-BC21-BDF9E40B31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Rutina De Tortu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4286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m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ñana de tortu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 la m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ñana, la tortuga se desparte muy tarde. Se levante a las dos y media. Se lava en el mar. La Tortuga uso mucho champú y un barro de jabõ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 De Tortug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ortuga se desayuna a las tres y media. El come el pan tostado y el cereal y el jugo de naranja. Se desayuna un desayuno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200320" cy="2962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a Tortuga Ponerse La Rop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tortuga se pone la ropa. Se pone unos cortos y un camisa y un sombr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555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Tortuga Afeit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ortuga se afeita a las cuatro. El uso navaja y crema de afeitar. El se mire en espejo. La rutina de la tortuga es compl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Extrem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1:59Z</dcterms:created>
  <dc:creator>cunninghamjon</dc:creator>
  <dc:description/>
  <dc:language>en-US</dc:language>
  <cp:lastModifiedBy>cunninghamjon</cp:lastModifiedBy>
  <dcterms:modified xsi:type="dcterms:W3CDTF">2012-04-05T13:01:47Z</dcterms:modified>
  <cp:revision>4</cp:revision>
  <dc:subject/>
  <dc:title>La Rutina De Tortuga</dc:title>
</cp:coreProperties>
</file>